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6BC-5714-47AC-B260-1C33E8D2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B1A-4D82-45B0-BC97-E81F1C5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255-64C9-4D16-8B8E-F2912CEE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CB9-7C57-4FA9-A68B-1C98B3E0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97B-4ADD-460D-923D-3D604211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B07-0982-4069-B742-CD1ADCC2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A60-1CD4-4571-81AB-CF4FB9E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CEF-D5A9-4B38-8D81-C92D865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CD8-9022-420B-B761-06B0750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D04-25A1-4C02-AB08-AB7B073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323-8F40-4A49-AAC7-00C2397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528-97E8-437B-B92C-520356B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8650B-AA30-4003-989B-C9397D268D3D}" type="slidenum"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7132680"/>
            <a:ext cx="139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13.3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000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1260360"/>
            <a:ext cx="8460000" cy="19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Hiljaisen viikon maanantai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140360" y="3959280"/>
            <a:ext cx="2433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200" spc="-1" strike="noStrike">
                <a:solidFill>
                  <a:srgbClr val="ff0000"/>
                </a:solidFill>
                <a:latin typeface="Arial"/>
              </a:rPr>
              <a:t>Luukas 22: 39-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79720" y="5981760"/>
            <a:ext cx="2781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uvitus Henry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oteutus Marko Oikar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0" y="2185920"/>
            <a:ext cx="3600360" cy="5015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4760" y="222120"/>
            <a:ext cx="9794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eesus lähti kaupungista ja meni tapansa mukaan Öljymäelle. Opetuslapset seurasivat hänt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ultuaan sinne Jeesus sanoi heille: "Rukoilkaa, ettette joutuisi kiusaukseen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78080"/>
            <a:ext cx="10250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tse hän meni vähän edemmäs, kivenheiton päähän, polvistui ja rukoi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"Isä, jos tahdot, niin ota tämä malja minulta pois. Mutta älköön toteutuko minun tahtoni, vaan sinun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1532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0360" y="633240"/>
            <a:ext cx="448308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59280" y="1260360"/>
            <a:ext cx="40593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un hän sitten nousi rukoilemasta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uli opetuslasten luo, hän tapasi heid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nukkumasta murheen uuvuttam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"Mitä? Nukutteko te?" hän sa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"Nouskaa ja rukoilkaa, ettette joutu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iusaukseen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70440" y="4140360"/>
            <a:ext cx="37702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eesuksen vielä puhu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inne tuli joukko miehiä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a heidän oppaanaan oli Juud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yksi kahdestatoista opetuslaps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1532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680" y="3240000"/>
            <a:ext cx="5486400" cy="407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81532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60360"/>
            <a:ext cx="8964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uudas tuli Jeesusta kohti antaakseen hänelle suudelman, mutta Jeesus sanoi hänel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"Juudas, suudelmallako sinä kavallat Ihmisen Pojan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260360"/>
            <a:ext cx="99331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un Jeesuksen seuralaiset näkivät, mitä oli tulossa, he sanoivat: "Herra, iskemmekö miekalla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Yksi heistä iskikin ylipapin palvelijaa niin että tämän oikea korva irto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utta Jeesus sanoi: "Ei! Antakaa tämän tapahtua." Hän kosketti miehen korvaa ja paransi hä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26040" y="2409840"/>
            <a:ext cx="468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"Te olette lähteneet kuin rosvon kimppu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ekat ja seipäät käsiss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nä olen joka päivä ollut teidän keskellä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emppelissä, ettekä te ole kättä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ohottaneet minua vastaan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31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32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4560" y="3419640"/>
            <a:ext cx="5635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utta nyt on teidän hetkenne, nyt on pimeydellä va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8120" y="1979640"/>
            <a:ext cx="52326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539640"/>
            <a:ext cx="5580000" cy="1079640"/>
          </a:xfrm>
          <a:prstGeom prst="wedgeRectCallout">
            <a:avLst>
              <a:gd name="adj1" fmla="val -23662"/>
              <a:gd name="adj2" fmla="val 178689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Comic Sans MS"/>
              </a:rPr>
              <a:t>Tuokin oli sen miehen seurass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179280"/>
            <a:ext cx="45165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ietari seurasi heitä jonkin matkan pääss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eskelle pihaa sytytettiin nuotio, ja k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väki asettui sen ympärille, Pietari istuut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uiden joukkoon. Muuan palvelustytt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näki hänet istumassa tulen ääressä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atsoi häntä pitkään ja sano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1720" y="3600360"/>
            <a:ext cx="38559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Vähän ajan kuluttua sanoi eräs 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hänet nähdessää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2160720"/>
            <a:ext cx="4319640" cy="1079280"/>
          </a:xfrm>
          <a:prstGeom prst="wedgeRoundRectCallout">
            <a:avLst>
              <a:gd name="adj1" fmla="val -86245"/>
              <a:gd name="adj2" fmla="val -23245"/>
              <a:gd name="adj3" fmla="val 16667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Sinäkin olet sitä joukk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2760" y="4541760"/>
            <a:ext cx="47372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unnin kuluttua vielä toinen mies väi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"Kyllä tuokin varmasti oli sen miehen kans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nhan hän galilealainenki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1532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85920" y="2868480"/>
            <a:ext cx="4114800" cy="397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50760" y="1301760"/>
            <a:ext cx="3240000" cy="1440000"/>
          </a:xfrm>
          <a:prstGeom prst="wedgeEllipseCallout">
            <a:avLst>
              <a:gd name="adj1" fmla="val 30300"/>
              <a:gd name="adj2" fmla="val 80490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Minäkö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nhän edes tunne hänt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1979640"/>
            <a:ext cx="3060720" cy="900000"/>
          </a:xfrm>
          <a:prstGeom prst="wedgeRoundRectCallout">
            <a:avLst>
              <a:gd name="adj1" fmla="val -35166"/>
              <a:gd name="adj2" fmla="val 9278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Erehdyt, en 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3240000"/>
            <a:ext cx="3240000" cy="900360"/>
          </a:xfrm>
          <a:prstGeom prst="wedgeRectCallout">
            <a:avLst>
              <a:gd name="adj1" fmla="val -61749"/>
              <a:gd name="adj2" fmla="val 302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n käsitä, mistä puh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3120" y="4951440"/>
            <a:ext cx="28242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Siinä samassa, h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vielä puhuess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kukko laulo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1532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5486400" cy="4394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94320" y="257040"/>
            <a:ext cx="338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Herra kääntyi ja katsoi Pietari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a Pietari muis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tä Herra oli hänelle sanon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720720"/>
            <a:ext cx="4498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200" spc="-1" strike="noStrike">
                <a:solidFill>
                  <a:srgbClr val="ff0000"/>
                </a:solidFill>
                <a:latin typeface="Arial"/>
              </a:rPr>
              <a:t>Ennen kuin kukko tänään laula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200" spc="-1" strike="noStrike">
                <a:solidFill>
                  <a:srgbClr val="ff0000"/>
                </a:solidFill>
                <a:latin typeface="Arial"/>
              </a:rPr>
              <a:t>sinä kolmesti kiellät min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3240" y="6840360"/>
            <a:ext cx="3325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Hän meni ulos ja itki katkera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20000" y="7132680"/>
            <a:ext cx="12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21:09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5:20:08Z</dcterms:created>
  <dc:creator>Marko Oikarinen</dc:creator>
  <dc:description/>
  <dc:language>en-US</dc:language>
  <cp:lastModifiedBy>Marko Oikarinen</cp:lastModifiedBy>
  <dcterms:modified xsi:type="dcterms:W3CDTF">2010-03-13T18:57:25Z</dcterms:modified>
  <cp:revision>20</cp:revision>
  <dc:subject/>
  <dc:title/>
</cp:coreProperties>
</file>